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141-3AEF-4F36-BED9-62E626E87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Nancy indicated,  we not only had to write a curriculum with literature appreciation, location and access skills, and information literac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d to do it in the framework of 21st century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reserched and identified the best practices for academic success in the 21st century,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ot only looked at the 21st century LEARNING ENVIRONMENT... we looked at THE 21ST CENTURY stud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21st century kid is busy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've got a lot to do...all the tim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res, homework, friends, organized sports, scouts, lessons, sleep, family, movies, music, TV,  videos,computing, gaming, texting, religious instruction, traveling, school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aybe, if they are luck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ttle time for hobbies, conversing, relaxing, reading, daydreaming, joking, praying, journaling, and even a little doo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have a lot to learn....and we have a lot to t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ramework for learning AND TEACHING has evolved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chool 1 point 0 we have our core subjects of reading, Writing, arithmetic, -3 R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y of these was the goal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  the recent past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was mastery of the core subject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reading or lang arts, world language, arts, mathematics, economics, civics, science, geography, history, and gover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chool 1.0 library we had print dictionaries, encyclopedias, atlases, fiction, non-fiction, periodicals, biographies, short stories, poetry, all nicely organized on orderly shelves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with a Dewey Decimal  # for location and retrie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all the resources had finding aids for ease of use by our information seeke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betical order, chronological order, table of contents, Index, glossary, see references, headings in bo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d lessons, to learn about the 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esources written with authority by experts in thei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, what where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the 10  facts, in an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information wasn't in the library...it didn't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  paradigm shifted and we've been busy too...often times just trying to kee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this PA Dept. of Ed chart illust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moved instruction in Pennsylvania scho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what one might commonly think of a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earning activities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chool 1.0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1st Century learning environ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what can be 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2.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ur classrooms and library media center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migrating from teacher centered to learner cen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use the information we locate, not just memoriz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looking for the How? and Why?  of a subject... making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are interdisciplinary and collabo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 School 2.0 or 21st century learning enviro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re subjects are now woven into the 21st century interdisciplinary themes 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bal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vic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he 4 C'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earning and innovation skills 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solv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thinking and creati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fe and work environment of the future will require far more than thinking skills and content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will requi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ility, adaptability, initiative, self-direction, social and cultural skills, productivity, leadership and respon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he ever-evolving technology, media and information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s 21st century learning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is an important component of the 2lst century learning environment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l to the School 2.0 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live in a technology and media-driven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part of how we and our students live, work, communicate, collaborate, relax, teach, and learn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information is the backbone of the library media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students now have ac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n abundance of information,  24/7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wild and uncatalo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tools in the library media center and classroom are rapidly 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es for learning, collaborating, creating, communicating, and discovery, with technology is un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we venture into the RTI initiative the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 collaborate and design inquiry-based projects for independent learning, and  R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be shelving the old Bloom's Taxology 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the last 50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us design learning objectives that had a hierarchical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subject matter content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we used for designing tes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be employing the new Bloom's Taxonomy in our research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s, Active, Focus on the cognitiv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want your students to interact with the information they are seek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what they are looking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want them to do with the information they have found?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information gathered and make connections- compare/c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e fact from opi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the reliability, usefuleness of information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the process of gathering i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product using new found knowledge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updated information literacy units are designed to empower the students with the necessary skills needed to navigate, access and evalu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formation universe in this digital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students think they have won the information lottery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200,000,000 Hits on a Google search for Texa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don't know how to get to the information  they require...information over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tools to u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re they organized to find inform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 I know the information is relevant/ reli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I organize all of the information I have fou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is no way to stop the tide of inform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to empower our students to navigate this ocean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an no longer teach students everything they need to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to teach them how to find the inforam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literacy is a life skill for life long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ra will now help us connect the student and the information skills through collabo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740-E0AD-4173-A307-A002D90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457-EA98-4125-8384-2256D26D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D4B-3421-426B-ABD4-5D9F1F98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40D-142C-4FA0-9F01-D48AC6EB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C5E-BAF6-4580-B423-C0DEE7A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4E8-71D9-4070-8C41-01FE5BC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635-29AE-4A46-8D42-E2495D95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701-0E6B-47E4-AA3D-2965965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AB8-4679-4281-8A17-9629DA14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330-3914-4FD5-BDE2-8F2802D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E91-3C92-4BA1-ACC4-A61C2E8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F63-1A1C-49A8-A859-866CA64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18E-62EB-4F28-A64C-7BD5122F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50760" y="1941120"/>
            <a:ext cx="713556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Arial"/>
              </a:rPr>
              <a:t>Empowering</a:t>
            </a:r>
            <a:br>
              <a:rPr sz="6700"/>
            </a:br>
            <a:r>
              <a:rPr b="0" lang="en-US" sz="6700" spc="-1" strike="noStrike">
                <a:solidFill>
                  <a:srgbClr val="ffffff"/>
                </a:solidFill>
                <a:latin typeface="Arial"/>
              </a:rPr>
              <a:t>Learner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50760" y="3817800"/>
            <a:ext cx="36637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b3d7"/>
                </a:solidFill>
                <a:latin typeface="Arial"/>
              </a:rPr>
              <a:t>@ your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0" y="209520"/>
            <a:ext cx="9613800" cy="74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A Standards--Reading &amp; Writing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ASL Standards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ig 6--Super 3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 Habi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areer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STE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xemplary Library Curricul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5960" y="203040"/>
            <a:ext cx="8807400" cy="72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5480" y="-101520"/>
            <a:ext cx="8364600" cy="7048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95800" y="7010280"/>
            <a:ext cx="4141800" cy="46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4073400" cy="8762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77720" y="590400"/>
            <a:ext cx="9202680" cy="6869160"/>
            <a:chOff x="477720" y="590400"/>
            <a:chExt cx="9202680" cy="6869160"/>
          </a:xfrm>
        </p:grpSpPr>
        <p:sp>
          <p:nvSpPr>
            <p:cNvPr id="78" name=""/>
            <p:cNvSpPr/>
            <p:nvPr/>
          </p:nvSpPr>
          <p:spPr>
            <a:xfrm>
              <a:off x="477720" y="590400"/>
              <a:ext cx="450864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School 1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Learning Activit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86360" y="590400"/>
              <a:ext cx="469404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School 2.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 u="sng">
                  <a:solidFill>
                    <a:srgbClr val="ff0000"/>
                  </a:solidFill>
                  <a:uFillTx/>
                  <a:latin typeface="Arial"/>
                </a:rPr>
                <a:t>Learning Environment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720" y="153180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acher Cent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86360" y="153180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rner Cent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7720" y="196056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ntent Cover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86360" y="196056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earning and Do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720" y="2389320"/>
              <a:ext cx="4508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iz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6360" y="2389320"/>
              <a:ext cx="4694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7720" y="2817720"/>
              <a:ext cx="4508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e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6360" y="2817720"/>
              <a:ext cx="46940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acilitator/Co-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7720" y="326232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Group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6360" y="326232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 Grou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7720" y="3691080"/>
              <a:ext cx="45086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Single instructional 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and learning modality 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6360" y="3691080"/>
              <a:ext cx="46940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ultiple instruction </a:t>
              </a: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&amp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earning modalities-include all student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720" y="4684680"/>
              <a:ext cx="45086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Memorization and Recal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86360" y="4684680"/>
              <a:ext cx="46940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Higher Order Thinking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Skills - Creativit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5524560"/>
              <a:ext cx="45086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ingle 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86360" y="5524560"/>
              <a:ext cx="46940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discipli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7720" y="6021360"/>
              <a:ext cx="4508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6360" y="6021360"/>
              <a:ext cx="4694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labor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7720" y="6483240"/>
              <a:ext cx="4508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extbook Depen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86360" y="6483240"/>
              <a:ext cx="46940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ultiple Sources of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7720" y="6980400"/>
              <a:ext cx="45086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rning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6360" y="6980400"/>
              <a:ext cx="46940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rning How to Lea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6360" y="5904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6360" y="15318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6360" y="1960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86360" y="23893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8177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6360" y="32623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6360" y="369108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6360" y="468468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6360" y="5524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6360" y="60213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86360" y="648324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86360" y="69804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6360" y="7459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72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8636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8040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720" y="5904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7720" y="590400"/>
              <a:ext cx="4508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772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720" y="590400"/>
              <a:ext cx="0" cy="941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636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6360" y="590400"/>
              <a:ext cx="0" cy="9414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7720" y="15318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720" y="153180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6360" y="5904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68040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80400" y="590400"/>
              <a:ext cx="0" cy="941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86360" y="15318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772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720" y="153180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636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6360" y="153180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720" y="1960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7720" y="19605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8040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80400" y="153180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86360" y="1960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72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720" y="196056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8636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86360" y="196056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720" y="23893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720" y="23893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8040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680400" y="196056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6360" y="23893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772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7720" y="2389320"/>
              <a:ext cx="0" cy="428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636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6360" y="2389320"/>
              <a:ext cx="0" cy="4284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720" y="28177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7720" y="28177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68040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80400" y="2389320"/>
              <a:ext cx="0" cy="428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6360" y="28177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772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720" y="2817720"/>
              <a:ext cx="0" cy="44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8636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86360" y="2817720"/>
              <a:ext cx="0" cy="44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720" y="32623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720" y="32623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68040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80400" y="2817720"/>
              <a:ext cx="0" cy="44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86360" y="32623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772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720" y="326232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636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6360" y="326232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720" y="369108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7720" y="369108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68040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80400" y="326232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6360" y="369108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772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720" y="3691080"/>
              <a:ext cx="0" cy="993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636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6360" y="3691080"/>
              <a:ext cx="0" cy="993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7720" y="468468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7720" y="468468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8040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80400" y="3691080"/>
              <a:ext cx="0" cy="993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6360" y="468468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72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7720" y="4684680"/>
              <a:ext cx="0" cy="839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636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6360" y="4684680"/>
              <a:ext cx="0" cy="8398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7720" y="5524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720" y="55245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8040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80400" y="4684680"/>
              <a:ext cx="0" cy="839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6360" y="5524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772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7720" y="5524560"/>
              <a:ext cx="0" cy="4968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636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6360" y="5524560"/>
              <a:ext cx="0" cy="4968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7720" y="60213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720" y="60213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68040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80400" y="5524560"/>
              <a:ext cx="0" cy="4968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86360" y="60213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772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720" y="6021360"/>
              <a:ext cx="0" cy="461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636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86360" y="6021360"/>
              <a:ext cx="0" cy="4618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720" y="648324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720" y="648324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8040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80400" y="6021360"/>
              <a:ext cx="0" cy="461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6360" y="648324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772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7720" y="6483240"/>
              <a:ext cx="0" cy="497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636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86360" y="6483240"/>
              <a:ext cx="0" cy="497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7720" y="69804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720" y="698040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040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0400" y="6483240"/>
              <a:ext cx="0" cy="497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86360" y="69804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72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8636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7720" y="7459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7720" y="7459560"/>
              <a:ext cx="4508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68040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86360" y="7459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1011096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15920" y="203040"/>
            <a:ext cx="8528040" cy="6496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98840" y="6908760"/>
            <a:ext cx="3809880" cy="46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28800" y="203040"/>
            <a:ext cx="39178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Arial"/>
              </a:rPr>
              <a:t>New Bloom </a:t>
            </a:r>
            <a:r>
              <a:rPr b="1" lang="en-US" sz="2100" spc="-1" strike="noStrike">
                <a:solidFill>
                  <a:srgbClr val="9900ff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73520" y="812880"/>
            <a:ext cx="5372280" cy="5925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1520" y="3759120"/>
            <a:ext cx="4476960" cy="3656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55640" y="2743200"/>
            <a:ext cx="3198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Old Bloom </a:t>
            </a:r>
            <a:r>
              <a:rPr b="1" lang="en-US" sz="2100" spc="-1" strike="noStrike">
                <a:solidFill>
                  <a:srgbClr val="0b5394"/>
                </a:solidFill>
                <a:latin typeface="Arial"/>
              </a:rPr>
              <a:t>NOUNS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84280" y="6738840"/>
            <a:ext cx="70232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ASL Standards for the 21st Century Lea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created in Word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http://www.wordle.net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92200" y="338040"/>
            <a:ext cx="8647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440" y="-47520"/>
            <a:ext cx="10133280" cy="7611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5960" y="4070520"/>
            <a:ext cx="5133960" cy="330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0040" y="4368960"/>
            <a:ext cx="3684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labor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05400" y="209520"/>
            <a:ext cx="3735360" cy="177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7280" y="3054240"/>
            <a:ext cx="3735360" cy="177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8840" y="920880"/>
            <a:ext cx="2949480" cy="15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0040" y="1219320"/>
            <a:ext cx="2455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munic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4920" y="203040"/>
            <a:ext cx="2455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oop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53400" y="3454560"/>
            <a:ext cx="2666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ordin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84520" y="303120"/>
            <a:ext cx="4649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100 Ways to Collabo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6160" y="1422360"/>
            <a:ext cx="974556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ollabor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a trusting, working relationship between two or more equal participants involved in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shared thinking, shared planning and shared creation of integrated instruction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 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ugh a shared vision and shared objectives, student learning opportunities are created that integrate subject content and information literacy by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o-planning, co-implementing, and co-evaluating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8200" y="1117440"/>
            <a:ext cx="8343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Library Media Curriculu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Nancy Barley – Pleasant Va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21st Century Lear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Meg Owens – McMurray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Collaboration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Myra Oleynik – Bower 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llaboration impacts student achievement.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85680" y="6602040"/>
            <a:ext cx="5443560" cy="27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e're linked to researc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30400" y="1623960"/>
            <a:ext cx="57164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52240" y="5587560"/>
            <a:ext cx="887076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Arial"/>
              </a:rPr>
              <a:t>  We're linked to other libraria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1422360"/>
            <a:ext cx="30243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5880" y="299880"/>
            <a:ext cx="957708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rofessional Learning Network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7320" y="1523520"/>
            <a:ext cx="96346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3120" y="1116000"/>
            <a:ext cx="9518760" cy="6229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29240" y="303120"/>
            <a:ext cx="42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VE Classroom 2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17440" y="1015920"/>
            <a:ext cx="7912440" cy="6004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73160" y="2843280"/>
            <a:ext cx="6796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Still on the fence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50800" y="608040"/>
            <a:ext cx="16002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agxe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741760" y="506520"/>
            <a:ext cx="53244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250920" y="-149400"/>
            <a:ext cx="10479240" cy="769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1520" y="101520"/>
            <a:ext cx="10061640" cy="76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33440" y="912960"/>
            <a:ext cx="5000760" cy="6476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379600" y="404640"/>
            <a:ext cx="538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agxed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here to interact with word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406440"/>
            <a:ext cx="536580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40" y="101520"/>
            <a:ext cx="9847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Write a curriculum to develop life-long learners who are effective users of ideas and 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120" y="4138560"/>
            <a:ext cx="97347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Flexible learning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2101680"/>
            <a:ext cx="5202000" cy="377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1520" y="2031840"/>
            <a:ext cx="4732560" cy="3827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17600" y="98280"/>
            <a:ext cx="1903320" cy="215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299280" y="101520"/>
            <a:ext cx="2314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83360" y="1908000"/>
            <a:ext cx="4219560" cy="446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30320"/>
            <a:ext cx="4353120" cy="4443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23880" y="507960"/>
            <a:ext cx="2406600" cy="1879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112160" y="812880"/>
            <a:ext cx="1680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20680" y="411120"/>
            <a:ext cx="8390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3040" y="4844880"/>
            <a:ext cx="87105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f everyone is moving forward together, then success takes care of itself."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                                                           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nry F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35240" y="20304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280" y="101520"/>
            <a:ext cx="100141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680" y="1219320"/>
            <a:ext cx="9860040" cy="9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ccccff"/>
                </a:solidFill>
                <a:uFillTx/>
                <a:latin typeface="Arial"/>
              </a:rPr>
              <a:t>Library Media Resources Curriculum Map -- K-1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